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0B62-31A2-4C20-8B0E-BAF8EEEFD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4497-4B62-498E-88AC-782291C6C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7C2E-073C-4E82-AA41-7850C2607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68C9-2B83-49B1-A0FD-486E6207F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C91C-C394-4991-BFA2-8DACD9E01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DCA8-A633-4F1A-B1F6-432A9F87A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84F8-BD62-4F3B-A748-4762E20ED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4B3B-2EE1-4627-AFB2-2F8F2DAF2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B853-72F1-4AC1-8942-A8AF0E4C5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546A-A3F6-4955-BE29-6E1DF66A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76FD-BF32-4F87-811C-053474EC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DB53-25BF-468F-8B1A-C5254D7D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1148-8791-45B9-8818-02C054D32E73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59 Svit slnka hasne v dial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vit slnka hasne v diali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padá noc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o tmy sa všetko halí,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o Božia mo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die otcovsky nad nami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chráni nás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ed diabla nástraham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ždy v každý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ám pokojný sen, Pan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 práci praj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nového dňa úsvit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s uzrieť daj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y radostne sme vstal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ten ranný čas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vďačne uvítal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eň plný kr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raz všetko zotmi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stratí sa jas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aj počuť nám aj vo tm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voj spásny hl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ám prijmi nás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d krídla tej milost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o pre nás chystá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ídla vo večnosti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7T20:01:05Z</dcterms:modified>
  <cp:revision>61</cp:revision>
  <dc:subject/>
  <dc:title>Je veľký náš Pán, on slávy je Kráľ Nech do všetkých strán  spev vrúcnych znie chvál.</dc:title>
</cp:coreProperties>
</file>